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8E51-A3B3-4661-B71F-1BA26967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17E8-F508-4646-9954-945B71C6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8DC-18A9-4BD5-986A-0E6378F8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8DE5-2BAF-444A-828C-DDC2F44B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EB37-3D07-41EF-BA55-2241D977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19EE-8D9B-4F63-B59B-04630AD8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A23A-957D-44AF-9ADE-0912EE6F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BBE1-1804-4141-BFB1-AD9DBFD6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72E1-2843-485E-BE78-E452985B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EBC6-A911-486D-A2D5-407FD59B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9A51-CC40-4045-9EFE-EDC883F7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F706-D252-4F0A-B99A-49B46094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F356-24CF-4E93-862C-15CB53F3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A26B-492D-425A-AC86-BCF03869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C935-B56B-41DB-ADBA-A32B8313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41C2-53C6-4FE0-BECF-91F6B00A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16E88-A206-413B-841D-A30E903F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DDBB-5274-4137-8988-FFDC3946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B525-3EC1-4F59-80A6-A69A6D5E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6CF9-459A-4433-A2F7-F601DBB7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3D3-DBFB-4660-BCA7-DF3B4BB5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0E0E-578A-4E42-943F-42C9D36E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6B4D-6834-4335-9FEC-12B7736D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976C-5E33-4F8C-82AB-B5B1790E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13F7-0750-4CA5-B831-162845C82F5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F6D6-C8D7-4A59-BB81-6C918A8878A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vivirlatino.com/i/jan06/h_4_ill_676197_usa-mexico-border-31.jpg&amp;imgrefurl=http://vivirlatino.com/2006/02/01/mexico-needs-pr.php&amp;h=385&amp;w=575&amp;sz=40&amp;hl=en&amp;start=24&amp;um=1&amp;tbnid=fZwqd7lr8t8dXM:&amp;tbnh=90&amp;tbnw=134&amp;prev=/images%3Fq%3DU.S.%2BMexico%2BBorder%26start%3D20%26gbv%3D2%26ndsp%3D20%26svnum%3D10%26um%3D1%26hl%3Den%26sa%3DN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truthinourworld.com/images/illegalimgmay15gweb7su.jpg&amp;imgrefurl=http://truthinourworld.com/Immigration.aspx&amp;h=424&amp;w=500&amp;sz=60&amp;hl=en&amp;start=46&amp;um=1&amp;tbnid=JrxyqCIUmjTtNM:&amp;tbnh=110&amp;tbnw=130&amp;prev=/images%3Fq%3DIllegal%2BImmigration%26start%3D40%26gbv%3D2%26ndsp%3D20%26svnum%3D10%26um%3D1%26hl%3Den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llegal Immigr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-4536" t="-11123" r="-9081" b="1170"/>
          <a:stretch/>
        </p:blipFill>
        <p:spPr>
          <a:xfrm>
            <a:off x="1371600" y="1828800"/>
            <a:ext cx="6705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72388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ere do the Immigrants Go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4" name="" descr="Figure 3"/>
          <p:cNvPicPr/>
          <p:nvPr/>
        </p:nvPicPr>
        <p:blipFill>
          <a:blip r:embed="rId1"/>
          <a:stretch/>
        </p:blipFill>
        <p:spPr>
          <a:xfrm>
            <a:off x="1066680" y="1447920"/>
            <a:ext cx="7162920" cy="4647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914400" y="61722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Californi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Texa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New York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llinoi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Flor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Why Do Illegal Immigrants Come to the U.S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OB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5% Unemployment rate in Mex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 has exploded in past 50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xican Average wage is 1/10 of American W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105520" y="2209680"/>
            <a:ext cx="3429000" cy="2400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105520" y="4724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-A migrant worker picks strawberri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029200"/>
            <a:ext cx="403848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MILY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come to live with family already in U.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52480" y="838080"/>
            <a:ext cx="5715000" cy="3657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676520" y="4648320"/>
            <a:ext cx="5867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y Mexican workers toiled on farms on the West Coast until they got construction jobs several years ago. But building jobs dried up in October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O GETS IN LEGALLY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50,000-200,000 Mexicans immigrate legally each year (Naturalization Proce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ferences given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ose relatives of a legal U.S. res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illed workers or profession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**Many come illegally because the legal naturalization is backlog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ossing the Board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191360" cy="5381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838080" y="6400800"/>
            <a:ext cx="70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.S.-Mexico border is 1952 miles lo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655308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685800"/>
            <a:ext cx="7010640" cy="4708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143000" y="54864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torists must be careful of people crossing the border near major highway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rossing The Bord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yotes” help smuggle many illegal aliens into 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Dangerous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caught illegals are not brought to trial (catch and releas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858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story of Immigr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752480"/>
            <a:ext cx="80010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e 1880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st Immigrants came from Northern and Wester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880-1920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early 24 million people came from South and Easter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980’s to Today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st immigrants come from Asia, and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533520"/>
            <a:ext cx="6019560" cy="5092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523880" y="5715000"/>
            <a:ext cx="655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group of Illegal Aliens are caught by the U.S. Border Pa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460440"/>
            <a:ext cx="762012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How has U.S. been able to accommodate so many Immigrant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.S.A. is a Nation of Immigr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leration of different religions/trad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storically Strong Ec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Party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57400" y="609480"/>
            <a:ext cx="510552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How have we NOT been so accommodating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ativ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favoring interests of people born in America of those of immigr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hinese Exclusion Act 1882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revented Chinese from becoming U.S. citiz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Quota System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llowed only certain #’s of Immigrants from each coun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238880" cy="54864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inese Exclusion Ac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Facts on Illegal Immigr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million Illegal Immigrants in U.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roximately 1.1 million per year 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Illegals come from Mex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work in unskilled labor fields: Agriculture, Construction, Restaurant/hot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19:53:27Z</dcterms:created>
  <dc:creator>gx270</dc:creator>
  <dc:description/>
  <dc:language>en-US</dc:language>
  <cp:lastModifiedBy>gx270</cp:lastModifiedBy>
  <dcterms:modified xsi:type="dcterms:W3CDTF">2007-09-25T22:40:44Z</dcterms:modified>
  <cp:revision>3</cp:revision>
  <dc:subject/>
  <dc:title>Illegal Immigration</dc:title>
</cp:coreProperties>
</file>